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3F7-EB38-4E45-9548-7F70BF69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160-8488-450C-916E-D135EB0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BD-3848-4B7F-9F48-8ACD7208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330-4A24-402A-9305-F5B40E9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EB8-9314-419C-A869-98C27F36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EDB-111C-4219-9896-7C6A8E9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FC6-EB86-4F11-91A8-4AF82ED7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CFB-260F-4B8F-8D6D-AB17A09F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014-9FC6-4732-B3C6-1F2F8AD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D2F-9E46-4FBA-8E23-CB9571F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B14-C90C-4CF7-851D-F4124F2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8B1-2276-4285-8091-E074ED5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B0E-CCEB-4AD2-8CCC-8E587A05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360" y="2438280"/>
            <a:ext cx="1935360" cy="208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2133360" cy="207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13:52Z</dcterms:created>
  <dc:creator>Danielle DeSumma</dc:creator>
  <dc:description/>
  <dc:language>en-US</dc:language>
  <cp:lastModifiedBy>Hempfield High School</cp:lastModifiedBy>
  <dcterms:modified xsi:type="dcterms:W3CDTF">2009-11-12T15:51:56Z</dcterms:modified>
  <cp:revision>4</cp:revision>
  <dc:subject/>
  <dc:title>Slide 1</dc:title>
</cp:coreProperties>
</file>